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D7C-CE1A-41CE-95BF-4C41FEC3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EF2-E47D-4AFA-B2B7-672DF69A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62D-F471-4C45-B094-B807E657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1C7-386D-415C-B7E2-896309FC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37DD-75F7-45A6-90A9-B3701B53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7955-6C14-4DFF-ABB4-0FE4444E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F19F-D120-487A-96CF-B5AE9CD1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59C2-F04C-4E37-B2E8-6C536713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8A99-79DB-4A65-8E7A-516C0E32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4AA5-EE69-41D1-A85C-16CB4E8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3E67-7270-4174-8194-A40ACDBB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83E-A437-4576-838E-A1CF3089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BE22-DBEC-460A-A5D6-450C8264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43DA-B9C8-43EC-B260-4DD3660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4DA1-0141-43A0-A964-8C9209A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626C-C8FE-4614-AE38-7F2F6D0E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9BD0-56B3-4EEE-98EE-F1D32B77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181-98D4-4FDB-A74B-4DE9D034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D5D-9CDD-47CA-A01D-72DF25E1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E8B-E86A-4991-9323-E50E979B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C28-ED2B-42EA-A512-EA38845E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6E4-0171-4818-B691-C3CB7D5E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C08-58D5-4863-A2D2-D953566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91D-51F7-4D33-B36E-B926DC78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0567-831C-490A-A40D-54445FE48200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0E77-D099-4CD1-A5DB-B5F0BA8000D0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The New Monarchie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nsolidation Begi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Spain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716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Unified through marriage of  Ferdinand of Aragon and Isabella of Castil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rogram of religious orthodoxy: Catholicism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Jews &amp; Muslims conversion or exil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Inquisition began, root out heresy &amp; political opposition to monarch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Reconquista completed 1492 with defeat of Granad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0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Leader (w/Portugal) world explor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5432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ortugal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2138400"/>
            <a:ext cx="620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Unified territory and monarch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Taking the lead in world explor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SzPct val="120000"/>
              <a:buFont typeface="Monotype Sort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rince Henry the Navigator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2735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Holy Roman Empi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Unique obstacles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Vast distances between holding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gional disparit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Ethnic complexities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ack of strong hereditary kingship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standing disputes w/ papacy &amp; Fran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9" dur="1" fill="hold"/>
                                  <p:tgtEl>
                                    <p:spTgt spid="1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Holy Roman Empi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0528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Political empire imposed across geographic &amp; ethnic boundaries @ start 14th C: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Present-day Germany, Prussia, Hungary, Bohemia, Switzerland, &amp; parts of So./No. Ital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iterally 100’s smaller principalities, duchies, &amp; countr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Golden Bull 1356 set 7 electors - 4 princes of church, 3 lay princ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10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Habsburg family dominated imperial  title by 1438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Russia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9242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cccc"/>
              </a:buClr>
              <a:buFont typeface="Wingding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Unifying under the Dukes of Moscow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Font typeface="Wingding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buClr>
                <a:srgbClr val="cccccc"/>
              </a:buClr>
              <a:buFont typeface="Wingding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Isolated from Europe by geography, religion, neighboring countr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9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The New Monarchies and </a:t>
            </a:r>
            <a:br>
              <a:rPr sz="4000"/>
            </a:b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the Expansionist Impuls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rom 1450 onwards, France, England, and Spain sought social and political stabilit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Economic distress, civil disorder, plague, and Renaissance culture encouraged impulses to expand into the New Worl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Europeans ultimately hoped to discover an eastern oceanic route to Asia and exploit the African gold trade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7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Machiavellian?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enry VII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ouis XI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erdinand and Isabella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hat questions would you ask to make an argument for or against this evaluation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id they behave both “like a lion” and “like a fox”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1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General Characteristic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114640"/>
            <a:ext cx="731520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. Rulers attempted to bring civil peace back to kingdom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. Institution of monarchy was a guarantee of law and order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. Enlisted help of bourgeoisie who were tired of private wars and marauding nobles. Townspeople willing to let kings rule without parliaments or Estates Generals (strongholds of nobles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General Characteristic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7391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D. Kings, receiving money in taxes, able to organize armies. Pike and longbow enabled foot soldier to stand up to horsemen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E. Roman law adopted by monarchies – break down feudal or ‘common’ law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. Called themselves ‘sovereign’ and addressed as ‘majesty’; court life to reflect royal power continually develope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Tools of Stat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3920" y="2028960"/>
            <a:ext cx="691848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Standing armies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Management-mercenary armies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Organization-renaissance of infantry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Weapons-artillery and fortification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Regular Taxation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Bureaucracies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d93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An Ideology of Sovereignt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Parliaments Form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4800" y="2479680"/>
            <a:ext cx="666900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Parliament (England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Estates-General (France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Imperial Diet (“Germany” - HRE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Cortes (Castile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Cortes (Aragon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3d"/>
                </a:solidFill>
                <a:latin typeface="Times New Roman"/>
              </a:rPr>
              <a:t>* Riksdag (Sweden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Obstacles Weakene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280" y="2603520"/>
            <a:ext cx="68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cc66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bles weakened by Hundred Years War, War of the Roses, and Black Death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. Catholic Church weakened by the Schism (Spanish Church being the exception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Englan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96200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Henry VII and Tudor dynasty united the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eople after the Wars of the Ros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Henry VII restored prestige of the monarch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Laws vs. nobles’ standing arm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Monarch not dependent on govt 4 $ =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Encouraged trade, built up merchant flee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Crushed invasion from Ireland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Secured peace w/ Scotland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arliament was included in the Tudor system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3" dur="1" fill="hold"/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Englan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962000"/>
            <a:ext cx="754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Use of Star Chamber (Royal Council):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Center of authority, handled king’s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Aristocratic threats dealt w/ through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Roman Law &amp; methods of enforcemen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Accused not entitled to see evidence 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against them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Sessions in secre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Torture often used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Zapf Dingba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No jur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Franc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828800"/>
            <a:ext cx="7086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Victory in the Hundred Years’ War created a strong, centralized monarch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Louis XI (Valois 1461-1483), a Renaissance prince (the “spider king”) brought peace and controlled nobility: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promoted industry(looking for revenue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Improved army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Signed international treat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Estates General met only on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ＤＦＰ勘亭流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3d"/>
                </a:solidFill>
                <a:latin typeface="Times New Roman"/>
              </a:rPr>
              <a:t>Foundation of royal absolutism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6" dur="1" fill="hold"/>
                                  <p:tgtEl>
                                    <p:spTgt spid="1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san Gregory</cp:lastModifiedBy>
  <dcterms:modified xsi:type="dcterms:W3CDTF">2006-09-26T05:31:44Z</dcterms:modified>
  <cp:revision>1</cp:revision>
  <dc:subject/>
  <dc:title>The New Monarchies</dc:title>
</cp:coreProperties>
</file>